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542-D83D-49A7-9D3E-F261909B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339-FFCD-476F-BA34-C1C3055E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3165B-9047-4065-96DB-08D05D5E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CC04D-53C0-4FEA-9964-D6308883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D247B-847C-45E1-9B98-FA9FB39A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B001B-A3C1-4DC9-A4E6-9F033134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D9CEE-A5D7-4C67-BF4F-F7C90078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0F9B2-B542-41DB-82DC-AF4F9D84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18C45-468F-4FFE-A659-5F267197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9BD1E-16D2-49ED-87B0-650EE72E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A0E36-4988-49BF-A396-EAE8A1DC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B5C1F-C7EC-4344-A08D-16315A9C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CCD-5BFC-41D6-ADBD-D1181DAF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15F38-187C-468E-9907-327FC3DC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4F757-FB0E-46AB-9D53-F1FF2DE7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525B4-38AA-41BD-9DA2-3688827C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31235-64AA-4247-A039-7AA764AA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420CE-4C6E-474E-A999-CBD160E2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7BE8E-8C8B-482D-86A0-85EA4AB4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AF86B-857B-492E-9B92-FAB184E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45395-4CF9-4C27-BFE0-EFFE61DE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43D4A-6127-4801-BFB6-9AD25A21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5DB03-455F-4384-BD8C-70CBF1DC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D4A-593B-4AB4-8B13-63818B41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A7D1A-D345-4CFD-AB98-1490BAA1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142FB-D1D9-44FD-95BD-28911841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F8C69-32CB-4A4B-A018-C3DC50DB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6AF92-2944-42E5-839C-C160BAA9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8035A-C6E6-49D7-A12F-FD1C714E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CF330-8017-413D-B02E-2B9B4ECC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2B63E-4C35-4732-8476-52FC0960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CDDF8-9486-436D-9B3D-89C39607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AE432-3A62-48A0-A0E6-ACB0AE0D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2AC66-5A28-403C-964A-342A49D4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E32B-D1F2-4B1D-8A94-FB7F125F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6D068-3E81-431A-9B90-C2603AE6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EF6D3-25EB-440E-BCF1-147B2463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4F6A4-59DB-4BD3-BDB0-C5AD50A8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AEE9C-7B6E-448C-B6E7-EF905139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1227E-9995-459A-A991-DED1D447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414B3-9DC3-4137-BEE3-4961B667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FE05D-98A3-4005-B4ED-22B104C9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FD069-40AB-4C73-9FA0-620C22D2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BCA20-BAFE-4CE0-9385-51415558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6A4F6-6372-4C82-8863-0F7C0595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BD22-0828-406A-B1ED-6007B3DA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36CAF-BEC2-4954-826F-FAB62E8E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EBE0A-BC4F-4BB9-A059-D1917E9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CD3F6-96DF-4CA0-BF39-375ADF02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F1B20-A249-489D-835F-8A1408B0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8C1A4-F8DE-407F-A803-F4BDCFAC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03611B-4483-4524-9325-5D4C74BD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BE10D-9B8A-4F25-8D0D-B4903BB9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FB9C7-D95E-425D-9D09-EEBF7C4D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FB942-8B5D-4809-9595-1B97AD57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2562E-FA96-412A-8640-CF29452C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8E14-5FC2-4E02-9ADB-462C4216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EAAF2-3141-4EFE-9372-4955520E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B0A6E-DC88-43BE-9910-0A145FD9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E3EE3-C71C-4434-B434-0D6CB65B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3F4DA-3463-4648-94EF-6E13491F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C5F6E4-FB71-482B-8FAA-D216D665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D312F-15D3-452E-A698-33CED79B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4E031-57FA-4B2E-A8A8-3238EFBF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C0DE3-6107-4C03-A265-28A31FA6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93E4F-5D19-46C7-9DB8-AF41B24B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E2ACF-5BFF-4E9B-800C-3A909D77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2F6F-F25F-4309-8C09-C06D816B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7B556B-DE6C-4329-A22D-833A2121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8B521-BAFF-456B-996C-500AFB43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AD132-A7E3-47D6-AC24-2DFAF008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B0A10-5ECC-4BE3-A1BF-C22C0524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2CEDD-CAE6-4F47-BC6C-9035B1EB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22C115-07FD-4616-B61C-4B1F386A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26C3C-573D-48E4-867D-D01CE2D1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47009-F2CC-430F-80E3-C8CBA7F7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005DF-1810-4186-BDEE-2A8537F9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173C10-0222-4571-94C4-938ABA2D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4336-1136-4A10-AB11-6C11EDFC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2F466-3757-4C34-865A-B0D49348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7F944-31E5-47B1-B9FD-8B6987D6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79D71-098C-4DE5-8FB5-8C48C4D9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17EFD9-E8ED-4479-AC66-2E55F2D7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8D8FD-D954-4A0D-8A7D-0554294F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D8B2C-4DC6-4175-81D7-E5FDF2A2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962C27-27A2-45DF-885F-36BE3FA5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7DECA9-3A8E-4E3C-A93D-508D8FE6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27622-14D5-480A-B76D-3B553C52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9BEA9-AF15-460A-8888-791F63BF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127B-6CD0-45AE-8B7B-9956F2F8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67CBE1-7502-46A6-BED5-AB5D579C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77DD9-5128-4AD3-9351-34DEFAB2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17D9D-49A6-4D8B-AF04-96C9587B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7E991-EE67-498D-A695-8C7D33FD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F0A0EA-B71B-4985-93F7-3898F66C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4B02E-575A-40AA-981F-6AA0747E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21B48-6F04-4E9C-BDDA-C19B25F1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1B31A-4605-4499-9F96-34C317D5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303B82-4801-48E4-BE23-EF73C94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4ED03-16A5-494F-BAED-0EE2A7A2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74AF-0CE8-4D10-A065-52CB46D6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D2BDC-230E-463E-ADC5-784979DF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A5E9CE-9BF1-411D-A5FD-263E1AC4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BF8999-5F77-431C-9754-3F47073F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75DCA-C5DA-4B5B-A1B4-5043400E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F4CA3-433D-4E21-8CB0-2A55B24D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0FED5-AC7A-4FB7-BD74-AEDE37DE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D8E0E3-5B80-48B3-B104-0994BB8B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E17913-C91E-4A62-BE1E-C75016A0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8BB312-048D-476A-8861-BC344DD4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D8A93-D760-4BED-ABB6-F7DEDBBF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2FB-A750-4D81-9586-A6E5BA09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5222-2369-4AC4-9CF4-02E3760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D2407F-3163-40D7-943A-29581ED6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40E21B-03A5-4738-A66B-90334E5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BD0E53-114F-4FC7-B7FD-474AC6BD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C01DB-0981-43AD-841C-8E748FDF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86AF86-E878-494B-BA4C-5F948962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B675F-4338-4E94-B5C5-30FDC768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83D222-EBA6-4119-A0F6-3A270D8A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D49C8-C353-4D14-85CE-3E479F54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70343-B3C5-4F87-A24A-98F3D52A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7F35DB-53FA-4183-99FB-1FBB0149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64AD-4966-4AB8-918C-1CBA4C48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60980-C21E-4EE9-BD92-421DA2DA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E06B7-0C99-4254-8D5D-CED66F85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1C2AC-2E05-4849-AC59-5A186452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8813BD-A0F8-4AEF-883A-C0EADBE9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20A961-6E24-467A-AF76-033F7611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9EB210-AE9B-4524-B547-7C7B3E78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B66AF6-95E9-4130-8800-2B106339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8E53-1193-4FF7-BE67-6747999A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98F7-4DD2-4146-BE03-A7D547FF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6881-87B4-485E-ADC8-7F74AB7EF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1F331-B96B-4640-BDDC-0ED23816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5F0C3-843D-4FC3-AB99-4FD7600D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AE4D-CE38-423B-8A0A-314BAA5E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6017-3C8D-4784-8BCF-FEAB8080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C8EC-EA81-425C-9AD2-B656431A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FFBB-D472-4B1E-A185-BA8F3A4F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9D672-1553-4E83-A458-20C2F3F9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7BF7-F5D1-474D-AB40-D1362232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0EC33-0BE4-4565-A3C6-7319AA46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F73D9-7CA7-48D4-9CAC-2CCC86CB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AD5F-92DE-42FF-8D88-DBB06F67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4775-30A0-4671-B0C5-8C9D239C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A2A3F-4C2E-4346-91C4-53A9EFA4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B4886-02DB-4BCC-9C62-3A3B9FEF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C2677-E7A5-404E-8C82-89543C76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4E8AF-5312-49C4-B919-229EE768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503-CFF9-4418-83AD-DB20BD6B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D71C9-FA83-4EC9-BA0C-BA04DEFB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7A83-8045-418D-950E-7C0DE014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8A31-C89F-4BE9-A263-8CA1C594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EA89F-B186-4A38-95A7-AA89B0B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69CA-9788-4CCC-9295-2B04C452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48E51-826F-4ACE-8818-655498CD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8BE3B-3EE1-400A-8475-AB3318F7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6D4C2-CBCB-4EDF-8080-45FBF6F3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96533-BAF5-46BB-BE1A-10C3758E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43DFA-C99A-41B0-A24A-62804FE9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D67-DAA3-43AD-A11C-12F407C6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CB7FF-B15E-4820-B0CD-7303623B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6D110-2CA8-4EF4-91C3-C2D1ADBB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DB9AE-F788-48CF-A257-E0EFC488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4B325-B710-4B10-82C3-42010F54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FF2E5-0E17-4E19-AEA2-666A8DA8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A01A1-45C0-407A-94F2-63BCEF3B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8B117-AB24-4347-8A0A-A386EF62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30CBF-0BD5-4524-88D3-4069A226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7DA59-AF6E-498B-97CC-E284FF00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AA777-4732-4AA8-8AE3-8A078569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957-2B1F-446B-B318-8190A710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6CA4A-CF52-44AC-AF38-88C1E0C0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F3CA0-45D1-42E7-8DD9-8B4E3686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A5FC4-F411-43B4-B21C-410C54B8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9A3A6-F063-4275-9EBC-6711BE17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D907B-FD82-4042-B695-1F87803D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C27A3-0564-4AC5-A5C3-CFB98D2E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56B47-C975-44B2-AD8F-3FCFEE05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9A016-0713-4142-BE39-63C42D6E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48AC1-6ED2-4272-A968-C8D4D9E5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8DE94-DA65-4024-B63E-513783B4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887-C0CB-42B2-933C-38A9DE61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C3140-2BA2-4486-96A1-DF37AEEE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2103E-15EE-4C04-9540-0A67ED97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F9AA0-4A25-4C56-A1C1-80C0DF8D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D149E-E3CD-458B-81BB-49B03F19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7306-F562-49DC-A2EB-E1B1CC1B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778C6-BFB4-4851-9036-E5EB4A8B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1B7F8-CE3B-4C92-AFAE-9C8449DB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85F4A-AF5E-4B2E-88FF-31CA7A69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452AB-2BAB-44AC-A182-33160FBB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AFF53-8E69-48B1-9722-8631428D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0886-1806-4F5F-9271-F1FBAAB1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886AF-14D2-46A5-9095-02F71262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C9B7D-89B6-4D89-91B8-B6E0658E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8CAB8-713D-4F1F-9C0D-2CC2952E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C70E7-E3FB-4F29-9219-F410250C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FD75C-3C48-46E1-9272-1DA496F4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EC0FD-10FA-4C14-B1B7-49F5D96B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5529D-F1AD-4A59-9BA6-1492E7D1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7B189-84BE-43D4-870C-6730CB0E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FC050-9283-44E7-881E-B6FFF38B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A5969-E79E-449D-A75C-0E756B7C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CB2-59DA-4C43-BEBC-64F0E33A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14707-3AAF-40D8-A813-DCFE3B56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044CB-18A5-48AB-92EE-68A36FF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6063D-A82D-4516-A8EA-DEED5DF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90D9B-4FA8-404B-820F-11F9D7CA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ADF05-DDF6-4C85-BFBC-5928A9BC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61BE7-FA41-4DF3-BB5C-8E2EB5B5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E1894-29D5-42C7-B864-981DC6D1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43F91-9A19-430F-8DD0-4E87DBEB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182DE-FA10-43E7-B07C-DB284357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4A379-F457-454A-9E27-2E64FEBA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88FD-CAF8-4F35-84D8-3E80E8AF4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433A-ED56-4DA1-B7D9-A9F8F5168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7CC2-7D5F-473B-A023-956DA2100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EB22-5CDD-4064-B28A-39A683301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38B9-BFC0-4124-9586-0F0FF22FE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24AF-28C0-476B-B012-5FB49FC95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C7C4-BE83-4976-BF47-176C99A8F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CF0B-CEE2-4DC4-8C14-CD3411910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6DC9-DDD5-4DBC-B7CC-00A92BBFA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4D54-3057-41A3-BFF8-C4E6664E8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CDE6-75C8-49FB-A22C-C1A8B3669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5BFB-B999-4CB7-B8DD-41FB99D81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CBB4-C5BF-4837-8355-735AC7C56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46b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46b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0AC5-A206-468C-BC53-E4B957B48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46b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646b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B031-B63C-4435-9A57-49ABB77A8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D68A-2F1E-485C-A40A-E0FC204E0B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7828-4741-48F8-A8DF-13E13B9CD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AEFB-17A2-4F03-AC96-3E9F91524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3.1: Quadratic Functions and Models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Vertex formula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ex = (-b/2a, f(-b/2a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x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/2a= -10/2 =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-b/2a)= f(-5)= (-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(-5)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5-50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Graphing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two x points equally distance from the vertex (symmetrical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one of them (this will be the answer for 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the points and connect them to the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Graph these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5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4191120" y="2057400"/>
            <a:ext cx="433836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Your assignment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84-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50 every other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8 every other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Objectives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basic concepts about quadratic functions and their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square and apply the vertex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a quadratic function b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pplications and mode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What is a quadratic function?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function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=a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 does not equal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graph is a parabo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Tell me more!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fficient a indicates whether the parabola opens up or down, and how wide it is.  (as |a| increases, the parabola narro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fficient c is the y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A few more terms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ex: the highest or lowest point in a parabola (-b/2a, f(-b/2a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is of symmetry: a vertical line passes through the vertex (x=-b/2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intercept: y 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5486400" y="2971800"/>
            <a:ext cx="309096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What is the vertex form?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hard to find the vertex from f(x)=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kily, it is very easy to find from the vertex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(x-h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the vertex is (h, 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this parabola be in vertex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5715000" y="2895480"/>
            <a:ext cx="309096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pointy"/>
              </a:rPr>
              <a:t>How can you find the vertex form?</a:t>
            </a:r>
            <a:endParaRPr b="1" lang="en-US" sz="40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(x)=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x+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of f(x) t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c to the side with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cessary, multiply or divide so that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no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square with a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x by dividing b by 2 and squaring– make sure to add to 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the x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 y, dividing or multiplying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vertex (h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Trying it out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x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 of f(x) to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x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 c to the side with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+10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necessary, multiply so that 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 no coeffic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the square with a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bx by dividing b by 2 and squaring– make sure to add to both s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/2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+10+1=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x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or the x s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+11=(x+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 y, dividing or multiplying if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(x+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(h, 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, -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pointy"/>
              </a:rPr>
              <a:t>Trying it out again</a:t>
            </a:r>
            <a:endParaRPr b="1" lang="en-US" sz="4400" spc="-1" strike="noStrike">
              <a:solidFill>
                <a:srgbClr val="1c1c1c"/>
              </a:solidFill>
              <a:latin typeface="pointy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4x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f(x) to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4x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c to the side with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1=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4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ecessary, multiply or divide so that 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no co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/2-1/2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square with a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bx by dividing b by 2 and squaring– make sure to add to both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2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/2 -1/2 +1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2x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the x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/2 + 1/2=(x+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 y, dividing or multiplying if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/2 + ½)= 2(x+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2(x+1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(h, 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1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3:36:30Z</dcterms:created>
  <dc:creator>nuhs</dc:creator>
  <dc:description/>
  <dc:language>en-US</dc:language>
  <cp:lastModifiedBy>nuhs</cp:lastModifiedBy>
  <dcterms:modified xsi:type="dcterms:W3CDTF">2008-01-24T21:08:17Z</dcterms:modified>
  <cp:revision>5</cp:revision>
  <dc:subject/>
  <dc:title>3.1: Quadratic Functions and Models</dc:title>
</cp:coreProperties>
</file>